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AED05-0BEC-4C56-8C92-41D909D3F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FA0B-55C6-4AEB-A55F-9D20A3B4E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756A0-A98F-480C-B15E-A675AACB4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56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532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56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532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C7805-831F-4F07-A98F-36981DF7AE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290F-7212-4066-A337-A916F04AF8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7D859-7F82-483B-AC4A-DF0F5F4034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5C3F1-7759-4073-8665-54B6A4B11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59844-2172-458B-9CE5-349EEC9BC5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30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AD67E-C746-4580-92BF-210555461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7EC48-73BF-46C1-AB7F-C98C5BE21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A3092-7126-4B4D-8C7D-EABBA997C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D6631-0DB4-4BD3-9F0F-1FD5360F7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895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A07E0B-122F-4501-8324-5F25731E56B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2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función de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6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7"/>
            <p:cNvSpPr/>
            <p:nvPr/>
          </p:nvSpPr>
          <p:spPr>
            <a:xfrm>
              <a:off x="1828800" y="2666880"/>
              <a:ext cx="5697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LOS PROCESOS </a:t>
              </a:r>
              <a:br>
                <a:rPr sz="2800"/>
              </a:b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DE LA NUTRICIÓN </a:t>
              </a:r>
              <a:br>
                <a:rPr sz="2800"/>
              </a:b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EN UNA PLANT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6 Imagen" descr="plantaSOLA_baja.tif"/>
          <p:cNvPicPr/>
          <p:nvPr/>
        </p:nvPicPr>
        <p:blipFill>
          <a:blip r:embed="rId1"/>
          <a:stretch/>
        </p:blipFill>
        <p:spPr>
          <a:xfrm>
            <a:off x="2556000" y="692280"/>
            <a:ext cx="4417920" cy="558936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50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Text Box 4"/>
            <p:cNvSpPr/>
            <p:nvPr/>
          </p:nvSpPr>
          <p:spPr>
            <a:xfrm>
              <a:off x="984240" y="90360"/>
              <a:ext cx="815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procesos de la nutrición en una plant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4" name="Picture 6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10 CuadroTexto">
            <a:hlinkClick r:id="rId3" action="ppaction://hlinksldjump"/>
          </p:cNvPr>
          <p:cNvSpPr/>
          <p:nvPr/>
        </p:nvSpPr>
        <p:spPr>
          <a:xfrm>
            <a:off x="324000" y="4869000"/>
            <a:ext cx="2016000" cy="91692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1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bsorción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agua y sales miner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11 Grupo"/>
          <p:cNvGrpSpPr/>
          <p:nvPr/>
        </p:nvGrpSpPr>
        <p:grpSpPr>
          <a:xfrm>
            <a:off x="611280" y="981000"/>
            <a:ext cx="2089080" cy="1152720"/>
            <a:chOff x="611280" y="981000"/>
            <a:chExt cx="2089080" cy="1152720"/>
          </a:xfrm>
        </p:grpSpPr>
        <p:sp>
          <p:nvSpPr>
            <p:cNvPr id="57" name="AutoShape 7"/>
            <p:cNvSpPr/>
            <p:nvPr/>
          </p:nvSpPr>
          <p:spPr>
            <a:xfrm>
              <a:off x="611280" y="981000"/>
              <a:ext cx="2089080" cy="115272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Text Box 17"/>
            <p:cNvSpPr/>
            <p:nvPr/>
          </p:nvSpPr>
          <p:spPr>
            <a:xfrm>
              <a:off x="611280" y="1125000"/>
              <a:ext cx="202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1. OBTENCIÓN DE NUTRIENTES </a:t>
              </a:r>
              <a:br>
                <a:rPr sz="1600"/>
              </a:b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EN PLANT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14 CuadroTexto">
            <a:hlinkClick r:id="rId4" action="ppaction://hlinksldjump"/>
          </p:cNvPr>
          <p:cNvSpPr/>
          <p:nvPr/>
        </p:nvSpPr>
        <p:spPr>
          <a:xfrm>
            <a:off x="324000" y="3500280"/>
            <a:ext cx="2016000" cy="954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1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bsorción de dióxido de carbono (C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15 CuadroTexto"/>
          <p:cNvSpPr/>
          <p:nvPr/>
        </p:nvSpPr>
        <p:spPr>
          <a:xfrm>
            <a:off x="324000" y="2708280"/>
            <a:ext cx="2016000" cy="36828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1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otosínte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16 Grupo"/>
          <p:cNvGrpSpPr/>
          <p:nvPr/>
        </p:nvGrpSpPr>
        <p:grpSpPr>
          <a:xfrm>
            <a:off x="6659640" y="981000"/>
            <a:ext cx="2089080" cy="647640"/>
            <a:chOff x="6659640" y="981000"/>
            <a:chExt cx="2089080" cy="647640"/>
          </a:xfrm>
        </p:grpSpPr>
        <p:sp>
          <p:nvSpPr>
            <p:cNvPr id="62" name="AutoShape 7"/>
            <p:cNvSpPr/>
            <p:nvPr/>
          </p:nvSpPr>
          <p:spPr>
            <a:xfrm>
              <a:off x="6659640" y="981000"/>
              <a:ext cx="2089080" cy="647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6659640" y="1125000"/>
              <a:ext cx="202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2. RESPIRA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4" name="19 Grupo" descr=""/>
          <p:cNvPicPr/>
          <p:nvPr/>
        </p:nvPicPr>
        <p:blipFill>
          <a:blip r:embed="rId5"/>
          <a:stretch/>
        </p:blipFill>
        <p:spPr>
          <a:xfrm>
            <a:off x="6638760" y="2255760"/>
            <a:ext cx="2316240" cy="1054080"/>
          </a:xfrm>
          <a:prstGeom prst="rect">
            <a:avLst/>
          </a:prstGeom>
          <a:ln w="0">
            <a:noFill/>
          </a:ln>
        </p:spPr>
      </p:pic>
      <p:pic>
        <p:nvPicPr>
          <p:cNvPr id="65" name="22 Grupo" descr=""/>
          <p:cNvPicPr/>
          <p:nvPr/>
        </p:nvPicPr>
        <p:blipFill>
          <a:blip r:embed="rId6"/>
          <a:stretch/>
        </p:blipFill>
        <p:spPr>
          <a:xfrm>
            <a:off x="6705720" y="3693960"/>
            <a:ext cx="1993680" cy="10540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2"/>
          <p:cNvSpPr/>
          <p:nvPr/>
        </p:nvSpPr>
        <p:spPr>
          <a:xfrm>
            <a:off x="6948360" y="5300640"/>
            <a:ext cx="194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proceso para saber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51 Grupo"/>
          <p:cNvGrpSpPr/>
          <p:nvPr/>
        </p:nvGrpSpPr>
        <p:grpSpPr>
          <a:xfrm>
            <a:off x="179280" y="1989000"/>
            <a:ext cx="2448000" cy="4032360"/>
            <a:chOff x="179280" y="1989000"/>
            <a:chExt cx="2448000" cy="4032360"/>
          </a:xfrm>
        </p:grpSpPr>
        <p:sp>
          <p:nvSpPr>
            <p:cNvPr id="68" name="35 Conector recto"/>
            <p:cNvSpPr/>
            <p:nvPr/>
          </p:nvSpPr>
          <p:spPr>
            <a:xfrm>
              <a:off x="179280" y="2421000"/>
              <a:ext cx="0" cy="3600360"/>
            </a:xfrm>
            <a:prstGeom prst="line">
              <a:avLst/>
            </a:prstGeom>
            <a:ln w="28440">
              <a:solidFill>
                <a:srgbClr val="00b05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36 Conector recto"/>
            <p:cNvSpPr/>
            <p:nvPr/>
          </p:nvSpPr>
          <p:spPr>
            <a:xfrm>
              <a:off x="179280" y="6021360"/>
              <a:ext cx="2304000" cy="0"/>
            </a:xfrm>
            <a:prstGeom prst="line">
              <a:avLst/>
            </a:prstGeom>
            <a:ln w="28440">
              <a:solidFill>
                <a:srgbClr val="00b05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38 Conector recto"/>
            <p:cNvSpPr/>
            <p:nvPr/>
          </p:nvSpPr>
          <p:spPr>
            <a:xfrm>
              <a:off x="2483280" y="2421000"/>
              <a:ext cx="0" cy="3600360"/>
            </a:xfrm>
            <a:prstGeom prst="line">
              <a:avLst/>
            </a:prstGeom>
            <a:ln w="28440">
              <a:solidFill>
                <a:srgbClr val="00b05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43 Conector recto"/>
            <p:cNvSpPr/>
            <p:nvPr/>
          </p:nvSpPr>
          <p:spPr>
            <a:xfrm flipV="1">
              <a:off x="179280" y="1989000"/>
              <a:ext cx="432000" cy="432000"/>
            </a:xfrm>
            <a:prstGeom prst="line">
              <a:avLst/>
            </a:prstGeom>
            <a:ln w="28440">
              <a:solidFill>
                <a:srgbClr val="00b05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45 Conector recto"/>
            <p:cNvSpPr/>
            <p:nvPr/>
          </p:nvSpPr>
          <p:spPr>
            <a:xfrm flipV="1">
              <a:off x="2483280" y="2061000"/>
              <a:ext cx="144000" cy="360000"/>
            </a:xfrm>
            <a:prstGeom prst="line">
              <a:avLst/>
            </a:prstGeom>
            <a:ln w="28440">
              <a:solidFill>
                <a:srgbClr val="00b05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74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Text Box 4"/>
            <p:cNvSpPr/>
            <p:nvPr/>
          </p:nvSpPr>
          <p:spPr>
            <a:xfrm>
              <a:off x="984240" y="90360"/>
              <a:ext cx="7908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700" spc="-1" strike="noStrike">
                  <a:solidFill>
                    <a:srgbClr val="333399"/>
                  </a:solidFill>
                  <a:latin typeface="Arial"/>
                </a:rPr>
                <a:t>Los procesos de la nutrición en una planta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8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Text Box 7"/>
          <p:cNvSpPr/>
          <p:nvPr/>
        </p:nvSpPr>
        <p:spPr>
          <a:xfrm>
            <a:off x="971640" y="1461960"/>
            <a:ext cx="7272360" cy="20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plantas absorben, del suelo, agua con sales minerales disuel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 absorción se hace a través de unas células en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xtremo de la raíz, llamadas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pelos radic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ezcla de agua y sales minerales, una vez absorbida, recibe el nombre de </a:t>
            </a:r>
            <a:r>
              <a:rPr b="0" lang="es-ES" sz="2000" spc="-1" strike="noStrike">
                <a:solidFill>
                  <a:srgbClr val="008700"/>
                </a:solidFill>
                <a:latin typeface="Arial"/>
              </a:rPr>
              <a:t>savia bru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900000" y="90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1a. Absorción de agua y sales mi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2"/>
          <a:stretch/>
        </p:blipFill>
        <p:spPr>
          <a:xfrm>
            <a:off x="1547640" y="3745080"/>
            <a:ext cx="5904000" cy="2322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>
            <a:off x="2771640" y="4437000"/>
            <a:ext cx="151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Agua y sales miner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539640" y="4005360"/>
            <a:ext cx="10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el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adic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5651640" y="465300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avia bru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421164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7301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5456" y="3803"/>
                </a:lnTo>
                <a:lnTo>
                  <a:pt x="5456" y="17815"/>
                </a:lnTo>
                <a:lnTo>
                  <a:pt x="3794" y="17815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4648320" y="63770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Freeform 15"/>
          <p:cNvSpPr/>
          <p:nvPr/>
        </p:nvSpPr>
        <p:spPr>
          <a:xfrm>
            <a:off x="1440000" y="4500720"/>
            <a:ext cx="1001520" cy="583920"/>
          </a:xfrm>
          <a:custGeom>
            <a:avLst/>
            <a:gdLst>
              <a:gd name="textAreaLeft" fmla="*/ 0 w 1001520"/>
              <a:gd name="textAreaRight" fmla="*/ 1001880 w 100152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2783" h="1623">
                <a:moveTo>
                  <a:pt x="0" y="0"/>
                </a:moveTo>
                <a:lnTo>
                  <a:pt x="2782" y="1622"/>
                </a:lnTo>
              </a:path>
            </a:pathLst>
          </a:custGeom>
          <a:noFill/>
          <a:ln w="9360">
            <a:solidFill>
              <a:srgbClr val="c5000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Freeform 16"/>
          <p:cNvSpPr/>
          <p:nvPr/>
        </p:nvSpPr>
        <p:spPr>
          <a:xfrm>
            <a:off x="1440000" y="4500720"/>
            <a:ext cx="882360" cy="318960"/>
          </a:xfrm>
          <a:custGeom>
            <a:avLst/>
            <a:gdLst>
              <a:gd name="textAreaLeft" fmla="*/ 0 w 882360"/>
              <a:gd name="textAreaRight" fmla="*/ 882720 w 8823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52" h="887">
                <a:moveTo>
                  <a:pt x="0" y="0"/>
                </a:moveTo>
                <a:lnTo>
                  <a:pt x="2451" y="886"/>
                </a:lnTo>
              </a:path>
            </a:pathLst>
          </a:custGeom>
          <a:noFill/>
          <a:ln w="9360">
            <a:solidFill>
              <a:srgbClr val="c5000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Freeform 17"/>
          <p:cNvSpPr/>
          <p:nvPr/>
        </p:nvSpPr>
        <p:spPr>
          <a:xfrm>
            <a:off x="4708440" y="4343400"/>
            <a:ext cx="981000" cy="450720"/>
          </a:xfrm>
          <a:custGeom>
            <a:avLst/>
            <a:gdLst>
              <a:gd name="textAreaLeft" fmla="*/ 0 w 981000"/>
              <a:gd name="textAreaRight" fmla="*/ 981360 w 981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2726" h="1253">
                <a:moveTo>
                  <a:pt x="2725" y="125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c5000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5077080" cy="393408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92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Text Box 5"/>
            <p:cNvSpPr/>
            <p:nvPr/>
          </p:nvSpPr>
          <p:spPr>
            <a:xfrm>
              <a:off x="984240" y="90360"/>
              <a:ext cx="73310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700" spc="-1" strike="noStrike">
                  <a:solidFill>
                    <a:srgbClr val="333399"/>
                  </a:solidFill>
                  <a:latin typeface="Arial"/>
                </a:rPr>
                <a:t>Los procesos de la nutrición en una planta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6" name="Picture 7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Text Box 8"/>
          <p:cNvSpPr/>
          <p:nvPr/>
        </p:nvSpPr>
        <p:spPr>
          <a:xfrm>
            <a:off x="971640" y="1461960"/>
            <a:ext cx="72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dióxido de carbono, principalmente, entra en la planta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través de unos minúsculos poros, los estomas, que hay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la cara inferior de la hoj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971640" y="907920"/>
            <a:ext cx="77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1b. Absorción de dióxido de carbono o CO</a:t>
            </a:r>
            <a:r>
              <a:rPr b="1" lang="es-ES" sz="2400" spc="-1" strike="noStrike" baseline="-25000">
                <a:solidFill>
                  <a:srgbClr val="0087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556000" y="3860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o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716360" y="4491000"/>
            <a:ext cx="16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sición del estoma en la hoj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421164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7301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5456" y="3803"/>
                </a:lnTo>
                <a:lnTo>
                  <a:pt x="5456" y="17815"/>
                </a:lnTo>
                <a:lnTo>
                  <a:pt x="3794" y="17815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4648320" y="63770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" descr=""/>
          <p:cNvPicPr/>
          <p:nvPr/>
        </p:nvPicPr>
        <p:blipFill>
          <a:blip r:embed="rId1"/>
          <a:stretch/>
        </p:blipFill>
        <p:spPr>
          <a:xfrm>
            <a:off x="3348000" y="2924280"/>
            <a:ext cx="4176720" cy="363672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05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Text Box 4"/>
            <p:cNvSpPr/>
            <p:nvPr/>
          </p:nvSpPr>
          <p:spPr>
            <a:xfrm>
              <a:off x="984240" y="90360"/>
              <a:ext cx="73310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700" spc="-1" strike="noStrike">
                  <a:solidFill>
                    <a:srgbClr val="333399"/>
                  </a:solidFill>
                  <a:latin typeface="Arial"/>
                </a:rPr>
                <a:t>Los procesos de la nutrición en una planta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9" name="Picture 6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Text Box 7"/>
          <p:cNvSpPr/>
          <p:nvPr/>
        </p:nvSpPr>
        <p:spPr>
          <a:xfrm>
            <a:off x="684360" y="1052640"/>
            <a:ext cx="806436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iene lugar en los cloroplastos, que se hallan en las partes verdes de las planta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agua y el dióxido de carbono absorbidos llegan a los cloroplastos y fabrican, gracias a la luz solar, hidratos de carbono, que mezclados con agua en la hoja dan lugar a la </a:t>
            </a:r>
            <a:r>
              <a:rPr b="0" lang="es-ES" sz="2000" spc="-1" strike="noStrike">
                <a:solidFill>
                  <a:srgbClr val="008700"/>
                </a:solidFill>
                <a:latin typeface="Arial"/>
              </a:rPr>
              <a:t>savia elabor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87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 final, se produce oxígeno como desech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900000" y="62064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1c. Fotosínt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835280" y="4005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ergía sol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2050920" y="54450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oroplas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Freeform 12"/>
          <p:cNvSpPr/>
          <p:nvPr/>
        </p:nvSpPr>
        <p:spPr>
          <a:xfrm>
            <a:off x="3276720" y="4221000"/>
            <a:ext cx="1268280" cy="511200"/>
          </a:xfrm>
          <a:custGeom>
            <a:avLst/>
            <a:gdLst>
              <a:gd name="textAreaLeft" fmla="*/ 0 w 1268280"/>
              <a:gd name="textAreaRight" fmla="*/ 1268640 w 126828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3524" h="1421">
                <a:moveTo>
                  <a:pt x="0" y="0"/>
                </a:moveTo>
                <a:lnTo>
                  <a:pt x="3523" y="142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Freeform 13"/>
          <p:cNvSpPr/>
          <p:nvPr/>
        </p:nvSpPr>
        <p:spPr>
          <a:xfrm>
            <a:off x="3348000" y="5589720"/>
            <a:ext cx="1716120" cy="25200"/>
          </a:xfrm>
          <a:custGeom>
            <a:avLst/>
            <a:gdLst>
              <a:gd name="textAreaLeft" fmla="*/ 0 w 1716120"/>
              <a:gd name="textAreaRight" fmla="*/ 1716480 w 17161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4768" h="72">
                <a:moveTo>
                  <a:pt x="0" y="71"/>
                </a:moveTo>
                <a:lnTo>
                  <a:pt x="476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559640" y="40766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avia bru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7308720" y="5373720"/>
            <a:ext cx="16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gua e hidratos de carbono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savia elaborad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3564000" y="5950080"/>
            <a:ext cx="1224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6084720" y="6021360"/>
            <a:ext cx="158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20"/>
          <p:cNvSpPr/>
          <p:nvPr/>
        </p:nvSpPr>
        <p:spPr>
          <a:xfrm flipH="1">
            <a:off x="6875280" y="4292640"/>
            <a:ext cx="664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21"/>
          <p:cNvSpPr/>
          <p:nvPr/>
        </p:nvSpPr>
        <p:spPr>
          <a:xfrm flipH="1" flipV="1">
            <a:off x="6804000" y="501336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324000" y="551664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179280" y="6021360"/>
            <a:ext cx="20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9 Imagen" descr="mitocondria_baja.tif"/>
          <p:cNvPicPr/>
          <p:nvPr/>
        </p:nvPicPr>
        <p:blipFill>
          <a:blip r:embed="rId1"/>
          <a:stretch/>
        </p:blipFill>
        <p:spPr>
          <a:xfrm>
            <a:off x="2771640" y="3716280"/>
            <a:ext cx="4303800" cy="271944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26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Text Box 4"/>
            <p:cNvSpPr/>
            <p:nvPr/>
          </p:nvSpPr>
          <p:spPr>
            <a:xfrm>
              <a:off x="984240" y="90360"/>
              <a:ext cx="783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procesos de nutrición en una plant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0" name="Picture 6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Text Box 8"/>
          <p:cNvSpPr/>
          <p:nvPr/>
        </p:nvSpPr>
        <p:spPr>
          <a:xfrm>
            <a:off x="900000" y="90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2. Respi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539640" y="1413000"/>
            <a:ext cx="8388360" cy="28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plantas respiran continuamente. Este proceso lo realizan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mitocondr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La planta obtiene oxígeno por los estomas y por los pelos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la raíz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Este oxígeno llega a las mitocondrias donde junto con los hidratos de carbono se obtiene energí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Se libera agua y C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Geneva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Freeform 12"/>
          <p:cNvSpPr/>
          <p:nvPr/>
        </p:nvSpPr>
        <p:spPr>
          <a:xfrm flipV="1">
            <a:off x="1979640" y="4221000"/>
            <a:ext cx="1368360" cy="503280"/>
          </a:xfrm>
          <a:custGeom>
            <a:avLst/>
            <a:gdLst>
              <a:gd name="textAreaLeft" fmla="*/ 0 w 1368360"/>
              <a:gd name="textAreaRight" fmla="*/ 1368720 w 1368360"/>
              <a:gd name="textAreaTop" fmla="*/ 360 h 503280"/>
              <a:gd name="textAreaBottom" fmla="*/ 504000 h 503280"/>
            </a:gdLst>
            <a:ahLst/>
            <a:rect l="textAreaLeft" t="textAreaTop" r="textAreaRight" b="textAreaBottom"/>
            <a:pathLst>
              <a:path w="2232025" h="719137">
                <a:moveTo>
                  <a:pt x="0" y="719137"/>
                </a:moveTo>
                <a:lnTo>
                  <a:pt x="0" y="404515"/>
                </a:lnTo>
                <a:cubicBezTo>
                  <a:pt x="0" y="230754"/>
                  <a:pt x="140861" y="89893"/>
                  <a:pt x="314622" y="89893"/>
                </a:cubicBezTo>
                <a:cubicBezTo>
                  <a:pt x="314622" y="89893"/>
                  <a:pt x="314622" y="89893"/>
                  <a:pt x="314622" y="89893"/>
                </a:cubicBezTo>
                <a:lnTo>
                  <a:pt x="2052241" y="89892"/>
                </a:lnTo>
                <a:lnTo>
                  <a:pt x="2052241" y="0"/>
                </a:lnTo>
                <a:lnTo>
                  <a:pt x="2232025" y="179784"/>
                </a:lnTo>
                <a:lnTo>
                  <a:pt x="2052241" y="359569"/>
                </a:lnTo>
                <a:lnTo>
                  <a:pt x="2052241" y="269676"/>
                </a:lnTo>
                <a:lnTo>
                  <a:pt x="314622" y="269676"/>
                </a:lnTo>
                <a:lnTo>
                  <a:pt x="314621" y="269676"/>
                </a:lnTo>
                <a:cubicBezTo>
                  <a:pt x="240153" y="269676"/>
                  <a:pt x="179784" y="330045"/>
                  <a:pt x="179784" y="404513"/>
                </a:cubicBezTo>
                <a:lnTo>
                  <a:pt x="179784" y="719137"/>
                </a:lnTo>
                <a:lnTo>
                  <a:pt x="0" y="719137"/>
                </a:lnTo>
                <a:close/>
              </a:path>
            </a:pathLst>
          </a:custGeom>
          <a:solidFill>
            <a:srgbClr val="0070c0">
              <a:alpha val="3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042920" y="3860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Arial"/>
              </a:rPr>
              <a:t>Oxíge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Freeform 11"/>
          <p:cNvSpPr/>
          <p:nvPr/>
        </p:nvSpPr>
        <p:spPr>
          <a:xfrm>
            <a:off x="1835280" y="4797360"/>
            <a:ext cx="1592280" cy="424080"/>
          </a:xfrm>
          <a:custGeom>
            <a:avLst/>
            <a:gdLst>
              <a:gd name="textAreaLeft" fmla="*/ 0 w 1592280"/>
              <a:gd name="textAreaRight" fmla="*/ 1592640 w 159228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2232025" h="784225">
                <a:moveTo>
                  <a:pt x="0" y="784225"/>
                </a:moveTo>
                <a:lnTo>
                  <a:pt x="0" y="441127"/>
                </a:lnTo>
                <a:cubicBezTo>
                  <a:pt x="0" y="251639"/>
                  <a:pt x="153610" y="98029"/>
                  <a:pt x="343098" y="98029"/>
                </a:cubicBezTo>
                <a:cubicBezTo>
                  <a:pt x="343098" y="98029"/>
                  <a:pt x="343098" y="98029"/>
                  <a:pt x="343098" y="98029"/>
                </a:cubicBezTo>
                <a:lnTo>
                  <a:pt x="2035969" y="98028"/>
                </a:lnTo>
                <a:lnTo>
                  <a:pt x="2035969" y="0"/>
                </a:lnTo>
                <a:lnTo>
                  <a:pt x="2232025" y="196056"/>
                </a:lnTo>
                <a:lnTo>
                  <a:pt x="2035969" y="392113"/>
                </a:lnTo>
                <a:lnTo>
                  <a:pt x="2035969" y="294084"/>
                </a:lnTo>
                <a:lnTo>
                  <a:pt x="343098" y="294084"/>
                </a:lnTo>
                <a:lnTo>
                  <a:pt x="343097" y="294084"/>
                </a:lnTo>
                <a:cubicBezTo>
                  <a:pt x="261888" y="294084"/>
                  <a:pt x="196056" y="359916"/>
                  <a:pt x="196056" y="441125"/>
                </a:cubicBezTo>
                <a:lnTo>
                  <a:pt x="196056" y="784225"/>
                </a:lnTo>
                <a:lnTo>
                  <a:pt x="0" y="784225"/>
                </a:lnTo>
                <a:close/>
              </a:path>
            </a:pathLst>
          </a:custGeom>
          <a:solidFill>
            <a:srgbClr val="ff0000">
              <a:alpha val="3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971640" y="522936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Hidratos </a:t>
            </a:r>
            <a:br>
              <a:rPr sz="2000"/>
            </a:b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de carbo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21"/>
          <p:cNvSpPr/>
          <p:nvPr/>
        </p:nvSpPr>
        <p:spPr>
          <a:xfrm>
            <a:off x="3924720" y="47242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Energ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Freeform 10"/>
          <p:cNvSpPr/>
          <p:nvPr/>
        </p:nvSpPr>
        <p:spPr>
          <a:xfrm>
            <a:off x="5724360" y="4508640"/>
            <a:ext cx="1295640" cy="43164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232025" h="719137">
                <a:moveTo>
                  <a:pt x="0" y="719137"/>
                </a:moveTo>
                <a:lnTo>
                  <a:pt x="0" y="404515"/>
                </a:lnTo>
                <a:cubicBezTo>
                  <a:pt x="0" y="230754"/>
                  <a:pt x="140861" y="89893"/>
                  <a:pt x="314622" y="89893"/>
                </a:cubicBezTo>
                <a:cubicBezTo>
                  <a:pt x="314622" y="89893"/>
                  <a:pt x="314622" y="89893"/>
                  <a:pt x="314622" y="89893"/>
                </a:cubicBezTo>
                <a:lnTo>
                  <a:pt x="2052241" y="89892"/>
                </a:lnTo>
                <a:lnTo>
                  <a:pt x="2052241" y="0"/>
                </a:lnTo>
                <a:lnTo>
                  <a:pt x="2232025" y="179784"/>
                </a:lnTo>
                <a:lnTo>
                  <a:pt x="2052241" y="359569"/>
                </a:lnTo>
                <a:lnTo>
                  <a:pt x="2052241" y="269676"/>
                </a:lnTo>
                <a:lnTo>
                  <a:pt x="314622" y="269676"/>
                </a:lnTo>
                <a:lnTo>
                  <a:pt x="314621" y="269676"/>
                </a:lnTo>
                <a:cubicBezTo>
                  <a:pt x="240153" y="269676"/>
                  <a:pt x="179784" y="330045"/>
                  <a:pt x="179784" y="404513"/>
                </a:cubicBezTo>
                <a:lnTo>
                  <a:pt x="179784" y="719137"/>
                </a:lnTo>
                <a:lnTo>
                  <a:pt x="0" y="719137"/>
                </a:lnTo>
                <a:close/>
              </a:path>
            </a:pathLst>
          </a:custGeom>
          <a:solidFill>
            <a:srgbClr val="ffc000">
              <a:alpha val="3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7020000" y="4005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Arial"/>
              </a:rPr>
              <a:t>Dióxido </a:t>
            </a:r>
            <a:br>
              <a:rPr sz="2000"/>
            </a:br>
            <a:r>
              <a:rPr b="1" lang="es-ES" sz="2000" spc="-1" strike="noStrike">
                <a:solidFill>
                  <a:srgbClr val="ffc000"/>
                </a:solidFill>
                <a:latin typeface="Arial"/>
              </a:rPr>
              <a:t>de carbo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Freeform 13"/>
          <p:cNvSpPr/>
          <p:nvPr/>
        </p:nvSpPr>
        <p:spPr>
          <a:xfrm flipV="1">
            <a:off x="6012000" y="5299920"/>
            <a:ext cx="1296720" cy="360360"/>
          </a:xfrm>
          <a:custGeom>
            <a:avLst/>
            <a:gdLst>
              <a:gd name="textAreaLeft" fmla="*/ 0 w 1296720"/>
              <a:gd name="textAreaRight" fmla="*/ 1297080 w 1296720"/>
              <a:gd name="textAreaTop" fmla="*/ -360 h 360360"/>
              <a:gd name="textAreaBottom" fmla="*/ 360360 h 360360"/>
            </a:gdLst>
            <a:ahLst/>
            <a:rect l="textAreaLeft" t="textAreaTop" r="textAreaRight" b="textAreaBottom"/>
            <a:pathLst>
              <a:path w="2232025" h="720725">
                <a:moveTo>
                  <a:pt x="0" y="720725"/>
                </a:moveTo>
                <a:lnTo>
                  <a:pt x="0" y="405408"/>
                </a:lnTo>
                <a:cubicBezTo>
                  <a:pt x="0" y="231263"/>
                  <a:pt x="141172" y="90091"/>
                  <a:pt x="315317" y="90091"/>
                </a:cubicBezTo>
                <a:cubicBezTo>
                  <a:pt x="315317" y="90091"/>
                  <a:pt x="315317" y="90091"/>
                  <a:pt x="315317" y="90091"/>
                </a:cubicBezTo>
                <a:lnTo>
                  <a:pt x="2051844" y="90091"/>
                </a:lnTo>
                <a:lnTo>
                  <a:pt x="2051844" y="0"/>
                </a:lnTo>
                <a:lnTo>
                  <a:pt x="2232025" y="180181"/>
                </a:lnTo>
                <a:lnTo>
                  <a:pt x="2051844" y="360363"/>
                </a:lnTo>
                <a:lnTo>
                  <a:pt x="2051844" y="270272"/>
                </a:lnTo>
                <a:lnTo>
                  <a:pt x="315317" y="270272"/>
                </a:lnTo>
                <a:lnTo>
                  <a:pt x="315316" y="270272"/>
                </a:lnTo>
                <a:cubicBezTo>
                  <a:pt x="240683" y="270272"/>
                  <a:pt x="180181" y="330774"/>
                  <a:pt x="180181" y="405407"/>
                </a:cubicBezTo>
                <a:lnTo>
                  <a:pt x="180181" y="720725"/>
                </a:lnTo>
                <a:lnTo>
                  <a:pt x="0" y="720725"/>
                </a:lnTo>
                <a:close/>
              </a:path>
            </a:pathLst>
          </a:custGeom>
          <a:solidFill>
            <a:srgbClr val="00b0f0">
              <a:alpha val="3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7451640" y="530064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b0f0"/>
                </a:solidFill>
                <a:latin typeface="Arial"/>
              </a:rPr>
              <a:t>Agu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421164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7301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5456" y="3803"/>
                </a:lnTo>
                <a:lnTo>
                  <a:pt x="5456" y="17815"/>
                </a:lnTo>
                <a:lnTo>
                  <a:pt x="3794" y="17815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4648320" y="63770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45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Text Box 4"/>
            <p:cNvSpPr/>
            <p:nvPr/>
          </p:nvSpPr>
          <p:spPr>
            <a:xfrm>
              <a:off x="984240" y="90360"/>
              <a:ext cx="783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procesos de nutrición en una plant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9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Text Box 8"/>
          <p:cNvSpPr/>
          <p:nvPr/>
        </p:nvSpPr>
        <p:spPr>
          <a:xfrm>
            <a:off x="900000" y="90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b0f0"/>
                </a:solidFill>
                <a:latin typeface="Arial"/>
              </a:rPr>
              <a:t>3. Distribución de las susta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611280" y="1413000"/>
            <a:ext cx="3960720" cy="46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sustancias se distribuyen por las plantas a través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vasos conductore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e son tubos que recorren el interior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tallos, las ramas y los nervios de las hoj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os vasos llevan la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savia brut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sde las raíces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las partes ver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os vasos llevan la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savia elabora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 todas las partes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la plan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2651400" cy="4000320"/>
          </a:xfrm>
          <a:prstGeom prst="rect">
            <a:avLst/>
          </a:prstGeom>
          <a:ln w="0">
            <a:noFill/>
          </a:ln>
        </p:spPr>
      </p:pic>
      <p:sp>
        <p:nvSpPr>
          <p:cNvPr id="153" name="22 CuadroTexto"/>
          <p:cNvSpPr/>
          <p:nvPr/>
        </p:nvSpPr>
        <p:spPr>
          <a:xfrm>
            <a:off x="6875640" y="162864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70c0"/>
                </a:solidFill>
                <a:latin typeface="Arial"/>
              </a:rPr>
              <a:t>Savia bru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23 CuadroTexto"/>
          <p:cNvSpPr/>
          <p:nvPr/>
        </p:nvSpPr>
        <p:spPr>
          <a:xfrm>
            <a:off x="6948360" y="24210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8000"/>
                </a:solidFill>
                <a:latin typeface="Arial"/>
              </a:rPr>
              <a:t>Savia elabor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25 Conector recto de flecha"/>
          <p:cNvCxnSpPr>
            <a:stCxn id="153" idx="1"/>
          </p:cNvCxnSpPr>
          <p:nvPr/>
        </p:nvCxnSpPr>
        <p:spPr>
          <a:xfrm flipH="1">
            <a:off x="5795280" y="1797480"/>
            <a:ext cx="1080360" cy="191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6" name="27 Conector recto de flecha"/>
          <p:cNvCxnSpPr>
            <a:stCxn id="154" idx="1"/>
          </p:cNvCxnSpPr>
          <p:nvPr/>
        </p:nvCxnSpPr>
        <p:spPr>
          <a:xfrm flipH="1">
            <a:off x="6227280" y="2589840"/>
            <a:ext cx="721440" cy="262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7" name="AutoShape 13"/>
          <p:cNvSpPr/>
          <p:nvPr/>
        </p:nvSpPr>
        <p:spPr>
          <a:xfrm>
            <a:off x="421164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7301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5456" y="3803"/>
                </a:lnTo>
                <a:lnTo>
                  <a:pt x="5456" y="17815"/>
                </a:lnTo>
                <a:lnTo>
                  <a:pt x="3794" y="17815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648320" y="63770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60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Text Box 4"/>
            <p:cNvSpPr/>
            <p:nvPr/>
          </p:nvSpPr>
          <p:spPr>
            <a:xfrm>
              <a:off x="984240" y="90360"/>
              <a:ext cx="783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procesos de nutrición en una plant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Text Box 8"/>
          <p:cNvSpPr/>
          <p:nvPr/>
        </p:nvSpPr>
        <p:spPr>
          <a:xfrm>
            <a:off x="900000" y="90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Arial"/>
              </a:rPr>
              <a:t>4. Expulsión de los des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611280" y="141300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plantas pueden expulsar sus desechos de varias form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14 Imagen" descr="desechosplantas.jpg"/>
          <p:cNvPicPr/>
          <p:nvPr/>
        </p:nvPicPr>
        <p:blipFill>
          <a:blip r:embed="rId2"/>
          <a:stretch/>
        </p:blipFill>
        <p:spPr>
          <a:xfrm>
            <a:off x="4427640" y="1989000"/>
            <a:ext cx="4278240" cy="36846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7"/>
          <p:cNvSpPr/>
          <p:nvPr/>
        </p:nvSpPr>
        <p:spPr>
          <a:xfrm>
            <a:off x="611280" y="1989000"/>
            <a:ext cx="388944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 los estomas, expulsan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oxígeno de la fotosíntesis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el dióxido de carbono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respiración, así como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xceso de agua (vapo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macenan desechos en células de hojas viejas que acaban perdien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mbién pueden perder sustancias como el látex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 la resina por cortes o herid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16 CuadroTexto"/>
          <p:cNvSpPr/>
          <p:nvPr/>
        </p:nvSpPr>
        <p:spPr>
          <a:xfrm>
            <a:off x="6804000" y="3789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b0f0"/>
                </a:solidFill>
                <a:latin typeface="Times New Roman"/>
              </a:rPr>
              <a:t>Oxíge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17 CuadroTexto"/>
          <p:cNvSpPr/>
          <p:nvPr/>
        </p:nvSpPr>
        <p:spPr>
          <a:xfrm>
            <a:off x="7596360" y="3429000"/>
            <a:ext cx="122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Times New Roman"/>
              </a:rPr>
              <a:t>Dióxido </a:t>
            </a:r>
            <a:br>
              <a:rPr sz="1600"/>
            </a:br>
            <a:r>
              <a:rPr b="0" lang="es-ES" sz="1600" spc="-1" strike="noStrike">
                <a:solidFill>
                  <a:srgbClr val="c00000"/>
                </a:solidFill>
                <a:latin typeface="Times New Roman"/>
              </a:rPr>
              <a:t>de carbo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18 CuadroTexto"/>
          <p:cNvSpPr/>
          <p:nvPr/>
        </p:nvSpPr>
        <p:spPr>
          <a:xfrm>
            <a:off x="7236000" y="2133720"/>
            <a:ext cx="12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o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2" name="20 Conector recto de flecha"/>
          <p:cNvCxnSpPr/>
          <p:nvPr/>
        </p:nvCxnSpPr>
        <p:spPr>
          <a:xfrm flipH="1">
            <a:off x="6947640" y="2420640"/>
            <a:ext cx="361080" cy="648360"/>
          </a:xfrm>
          <a:prstGeom prst="straightConnector1">
            <a:avLst/>
          </a:prstGeom>
          <a:ln w="28440">
            <a:solidFill>
              <a:srgbClr val="92d050"/>
            </a:solidFill>
            <a:miter/>
          </a:ln>
        </p:spPr>
      </p:cxnSp>
      <p:cxnSp>
        <p:nvCxnSpPr>
          <p:cNvPr id="173" name="36 Conector recto de flecha"/>
          <p:cNvCxnSpPr/>
          <p:nvPr/>
        </p:nvCxnSpPr>
        <p:spPr>
          <a:xfrm>
            <a:off x="7236000" y="3141720"/>
            <a:ext cx="576360" cy="21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74" name="37 CuadroTexto"/>
          <p:cNvSpPr/>
          <p:nvPr/>
        </p:nvSpPr>
        <p:spPr>
          <a:xfrm>
            <a:off x="7812000" y="2997360"/>
            <a:ext cx="9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70c0"/>
                </a:solidFill>
                <a:latin typeface="Times New Roman"/>
              </a:rPr>
              <a:t>Ag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38 CuadroTexto"/>
          <p:cNvSpPr/>
          <p:nvPr/>
        </p:nvSpPr>
        <p:spPr>
          <a:xfrm>
            <a:off x="637236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ojas viej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39 CuadroTexto"/>
          <p:cNvSpPr/>
          <p:nvPr/>
        </p:nvSpPr>
        <p:spPr>
          <a:xfrm>
            <a:off x="5148360" y="5805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eri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" name="41 Conector recto de flecha"/>
          <p:cNvCxnSpPr/>
          <p:nvPr/>
        </p:nvCxnSpPr>
        <p:spPr>
          <a:xfrm flipH="1" flipV="1">
            <a:off x="5147640" y="4581000"/>
            <a:ext cx="361080" cy="1224720"/>
          </a:xfrm>
          <a:prstGeom prst="straightConnector1">
            <a:avLst/>
          </a:prstGeom>
          <a:ln w="28440">
            <a:solidFill>
              <a:srgbClr val="92d050"/>
            </a:solidFill>
            <a:miter/>
          </a:ln>
        </p:spPr>
      </p:cxnSp>
      <p:cxnSp>
        <p:nvCxnSpPr>
          <p:cNvPr id="178" name="43 Conector recto de flecha"/>
          <p:cNvCxnSpPr/>
          <p:nvPr/>
        </p:nvCxnSpPr>
        <p:spPr>
          <a:xfrm flipH="1" flipV="1">
            <a:off x="5795640" y="4581000"/>
            <a:ext cx="792720" cy="1224720"/>
          </a:xfrm>
          <a:prstGeom prst="straightConnector1">
            <a:avLst/>
          </a:prstGeom>
          <a:ln w="28440">
            <a:solidFill>
              <a:srgbClr val="92d050"/>
            </a:solidFill>
            <a:miter/>
          </a:ln>
        </p:spPr>
      </p:cxnSp>
      <p:sp>
        <p:nvSpPr>
          <p:cNvPr id="179" name="AutoShape 13"/>
          <p:cNvSpPr/>
          <p:nvPr/>
        </p:nvSpPr>
        <p:spPr>
          <a:xfrm>
            <a:off x="421164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7301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5456" y="3803"/>
                </a:lnTo>
                <a:lnTo>
                  <a:pt x="5456" y="17815"/>
                </a:lnTo>
                <a:lnTo>
                  <a:pt x="3794" y="17815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4648320" y="63770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35:43Z</dcterms:created>
  <dc:creator>Carlos Martin</dc:creator>
  <dc:description/>
  <dc:language>en-US</dc:language>
  <cp:lastModifiedBy>jose luis</cp:lastModifiedBy>
  <dcterms:modified xsi:type="dcterms:W3CDTF">2012-10-04T16:29:52Z</dcterms:modified>
  <cp:revision>52</cp:revision>
  <dc:subject/>
  <dc:title>Presentación de PowerPoint</dc:title>
</cp:coreProperties>
</file>